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26.png" ContentType="image/png"/>
  <Override PartName="/ppt/media/image23.gif" ContentType="image/gif"/>
  <Override PartName="/ppt/media/image1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hammer.wav" ContentType="audio/x-wav"/>
  <Override PartName="/ppt/media/image12.png" ContentType="image/png"/>
  <Override PartName="/ppt/media/image28.png" ContentType="image/png"/>
  <Override PartName="/ppt/media/image2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chimes.wav" ContentType="audio/x-wav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3.jpeg" ContentType="image/jpeg"/>
  <Override PartName="/ppt/media/image31.jpeg" ContentType="image/jpeg"/>
  <Override PartName="/ppt/media/image14.gif" ContentType="image/gif"/>
  <Override PartName="/ppt/media/image15.jpeg" ContentType="image/jpeg"/>
  <Override PartName="/ppt/media/image16.gif" ContentType="image/gif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6DD2-80F4-4091-AA44-DB710E5801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先请学生根据课文内容，将空格填充完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然后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学生将他们的答案在同学们面前朗读出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最后单击空白出现答案，要求每个学生进行校对，防止单词拼写错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点击画面出现答案。单击右上角图片返回主界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D44-8BA7-4272-BE59-5C93A873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1E9-374A-4B82-8805-0DB65CD1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5DF-BF76-48B5-A53D-E0DF0C21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A38-502F-43DA-86FC-CD47F7CE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A8B-1E47-42F0-9177-4F7D457C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BA2-EDD3-46EF-9079-A985FF26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21F-9A8A-4357-96EA-31129C9D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D75-ABEA-48BC-A17F-921E8EDB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5AB-68B4-4D20-83F5-17D81E38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A27-5B15-4012-9DD7-CCE44EE1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E2D-57FA-4222-9DBA-1C60943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114-08B6-4382-94B9-6785B3EF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2745-F9D3-4D2C-8552-F4EF4454D6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file:///tmp/home/.config/libreoffice/4/user/gallery/a%20post%20office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8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" Target="slide6.xml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image" Target="../media/image14.gif"/><Relationship Id="rId4" Type="http://schemas.openxmlformats.org/officeDocument/2006/relationships/hyperlink" Target="file:///tmp/home/.config/libreoffice/4/user/gallery/kilometre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197200">
            <a:off x="349200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320400">
            <a:off x="7956720" y="5373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995640" y="371628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问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2" name="Cloud"/>
          <p:cNvSpPr/>
          <p:nvPr/>
        </p:nvSpPr>
        <p:spPr>
          <a:xfrm>
            <a:off x="1332000" y="1484280"/>
            <a:ext cx="6335640" cy="208584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95640" y="1916280"/>
            <a:ext cx="461304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Asking the way (A)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549360"/>
            <a:ext cx="23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Unit 3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1268280"/>
            <a:ext cx="8459640" cy="36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1.The post office is on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2.Mr Smith can take bus ___ in front of the History Museum and get off at the __ 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0"/>
            <a:ext cx="5256360" cy="76500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ask3: Listen and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258920" y="170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A. Zhongshan 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258920" y="2276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黑体"/>
              </a:rPr>
              <a:t>B. Nanjing 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258920" y="2781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C. Jiefang 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332000" y="47815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黑体"/>
              </a:rPr>
              <a:t>A. No.5 ,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332000" y="5300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黑体"/>
              </a:rPr>
              <a:t>B. No.9 ,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332000" y="5877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黑体"/>
              </a:rPr>
              <a:t>C. No.9 , 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1700280"/>
            <a:ext cx="1368720" cy="431640"/>
          </a:xfrm>
          <a:prstGeom prst="wedgeRectCallout">
            <a:avLst>
              <a:gd name="adj1" fmla="val -83296"/>
              <a:gd name="adj2" fmla="val -736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中山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1700280"/>
            <a:ext cx="53294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003"/>
          <p:cNvPicPr/>
          <p:nvPr/>
        </p:nvPicPr>
        <p:blipFill>
          <a:blip r:embed="rId2"/>
          <a:stretch/>
        </p:blipFill>
        <p:spPr>
          <a:xfrm>
            <a:off x="4356000" y="4076640"/>
            <a:ext cx="1800360" cy="165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图片3"/>
          <p:cNvPicPr/>
          <p:nvPr/>
        </p:nvPicPr>
        <p:blipFill>
          <a:blip r:embed="rId3"/>
          <a:stretch/>
        </p:blipFill>
        <p:spPr>
          <a:xfrm>
            <a:off x="4573440" y="5157720"/>
            <a:ext cx="1368720" cy="15112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4791600" y="53737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2916360" y="314172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3" descr="a post office"/>
          <p:cNvPicPr/>
          <p:nvPr/>
        </p:nvPicPr>
        <p:blipFill>
          <a:blip r:embed="rId4"/>
          <a:stretch/>
        </p:blipFill>
        <p:spPr>
          <a:xfrm>
            <a:off x="1547640" y="4005360"/>
            <a:ext cx="2448000" cy="1655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2"/>
          <p:cNvSpPr/>
          <p:nvPr/>
        </p:nvSpPr>
        <p:spPr>
          <a:xfrm>
            <a:off x="-36360" y="-27000"/>
            <a:ext cx="918036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ask4: Try to retell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001"/>
          <p:cNvPicPr/>
          <p:nvPr/>
        </p:nvPicPr>
        <p:blipFill>
          <a:blip r:embed="rId5"/>
          <a:stretch/>
        </p:blipFill>
        <p:spPr>
          <a:xfrm>
            <a:off x="324000" y="620640"/>
            <a:ext cx="1368360" cy="161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PGQ_011"/>
          <p:cNvPicPr/>
          <p:nvPr/>
        </p:nvPicPr>
        <p:blipFill>
          <a:blip r:embed="rId6"/>
          <a:stretch/>
        </p:blipFill>
        <p:spPr>
          <a:xfrm>
            <a:off x="1763640" y="836640"/>
            <a:ext cx="2089080" cy="1290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003"/>
          <p:cNvPicPr/>
          <p:nvPr/>
        </p:nvPicPr>
        <p:blipFill>
          <a:blip r:embed="rId7"/>
          <a:stretch/>
        </p:blipFill>
        <p:spPr>
          <a:xfrm>
            <a:off x="468360" y="2421000"/>
            <a:ext cx="2303280" cy="123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a1"/>
          <p:cNvPicPr/>
          <p:nvPr/>
        </p:nvPicPr>
        <p:blipFill>
          <a:blip r:embed="rId8"/>
          <a:stretch/>
        </p:blipFill>
        <p:spPr>
          <a:xfrm>
            <a:off x="2916360" y="2421000"/>
            <a:ext cx="3528720" cy="1258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9"/>
          <a:stretch/>
        </p:blipFill>
        <p:spPr>
          <a:xfrm>
            <a:off x="3995640" y="836640"/>
            <a:ext cx="2158920" cy="13064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6732720" y="2708280"/>
            <a:ext cx="1726560" cy="936720"/>
            <a:chOff x="6732720" y="2708280"/>
            <a:chExt cx="1726560" cy="936720"/>
          </a:xfrm>
        </p:grpSpPr>
        <p:pic>
          <p:nvPicPr>
            <p:cNvPr id="229" name="" descr=""/>
            <p:cNvPicPr/>
            <p:nvPr/>
          </p:nvPicPr>
          <p:blipFill>
            <a:blip r:embed="rId10"/>
            <a:stretch/>
          </p:blipFill>
          <p:spPr>
            <a:xfrm>
              <a:off x="6732720" y="2708280"/>
              <a:ext cx="172656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934400" y="2775960"/>
              <a:ext cx="3013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7948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2879640" cy="3168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900000" y="620640"/>
            <a:ext cx="453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 Part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1268280"/>
            <a:ext cx="2735280" cy="1296720"/>
          </a:xfrm>
          <a:prstGeom prst="rect">
            <a:avLst/>
          </a:prstGeom>
          <a:solidFill>
            <a:srgbClr val="ffff99">
              <a:alpha val="90000"/>
            </a:srgbClr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楷体"/>
              </a:rPr>
              <a:t>注意语音语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4000" y="5373720"/>
            <a:ext cx="3384360" cy="792000"/>
          </a:xfrm>
          <a:prstGeom prst="wedgeRoundRectCallout">
            <a:avLst>
              <a:gd name="adj1" fmla="val -63930"/>
              <a:gd name="adj2" fmla="val 498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1341360"/>
            <a:ext cx="7704000" cy="3598920"/>
          </a:xfrm>
          <a:prstGeom prst="wedgeRoundRectCallout">
            <a:avLst>
              <a:gd name="adj1" fmla="val -36583"/>
              <a:gd name="adj2" fmla="val 71171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68360" y="5140440"/>
            <a:ext cx="2881440" cy="1717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900000" y="1413000"/>
            <a:ext cx="73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 met Mr Smith in Shanghai Street. He wanted to go to ____ ________ _________ by bus. I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tol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him to _____ _____ No. 5 and get off at the _________ stop. Then he asked me how to get to ____  ____ _____. I told him to ____ ____ No.9 in front of ____ _______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2060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0000"/>
                </a:solidFill>
                <a:latin typeface="Arial"/>
                <a:ea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56000" y="2060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0000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b20000"/>
                </a:solidFill>
                <a:latin typeface="Arial"/>
                <a:ea typeface="Times New Roman"/>
              </a:rPr>
              <a:t>History    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95640" y="26370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0000"/>
                </a:solidFill>
                <a:latin typeface="Arial"/>
                <a:ea typeface="Times New Roman"/>
              </a:rPr>
              <a:t>take    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3141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0000"/>
                </a:solidFill>
                <a:latin typeface="Arial"/>
                <a:ea typeface="Times New Roman"/>
              </a:rPr>
              <a:t>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37162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0000"/>
                </a:solidFill>
                <a:latin typeface="Arial"/>
                <a:ea typeface="Times New Roman"/>
              </a:rPr>
              <a:t>the    post 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5640" y="37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0000"/>
                </a:solidFill>
                <a:latin typeface="Arial"/>
                <a:ea typeface="Times New Roman"/>
              </a:rPr>
              <a:t>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42926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0000"/>
                </a:solidFill>
                <a:latin typeface="Arial"/>
                <a:ea typeface="Times New Roman"/>
              </a:rPr>
              <a:t>the  History 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27640" y="37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0000"/>
                </a:solidFill>
                <a:latin typeface="Arial"/>
                <a:ea typeface="Times New Roman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3737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Your English is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4360" y="549360"/>
            <a:ext cx="453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 and comple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7020000" y="404640"/>
            <a:ext cx="2087640" cy="719280"/>
          </a:xfrm>
          <a:prstGeom prst="wedgeRectCallout">
            <a:avLst>
              <a:gd name="adj1" fmla="val 3458"/>
              <a:gd name="adj2" fmla="val 22704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ell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过去式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告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9280" y="2924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Excuse me, where is ...?/can you tell m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32115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537372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ow many stop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6021360"/>
            <a:ext cx="936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Comic Sans MS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24000" y="189000"/>
            <a:ext cx="4321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o be a tour guid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6659640" y="260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导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276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Comic Sans MS"/>
              </a:rPr>
              <a:t>Useful sent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3645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You can’t mis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4292640"/>
            <a:ext cx="9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Comic Sans MS"/>
              </a:rPr>
              <a:t>How far is it from here?   </a:t>
            </a:r>
            <a:r>
              <a:rPr b="0" lang="zh-CN" sz="2400" spc="-1" strike="noStrike">
                <a:solidFill>
                  <a:srgbClr val="ff5050"/>
                </a:solidFill>
                <a:latin typeface="Comic Sans MS"/>
              </a:rPr>
              <a:t>It’s about... kilometre(s)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4869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Which bus can I take?    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>
            <a:hlinkClick r:id="rId1" action="ppaction://hlinksldjump"/>
          </p:cNvPr>
          <p:cNvPicPr/>
          <p:nvPr/>
        </p:nvPicPr>
        <p:blipFill>
          <a:blip r:embed="rId2"/>
          <a:srcRect l="73929" t="76208" r="4406" b="5298"/>
          <a:stretch/>
        </p:blipFill>
        <p:spPr>
          <a:xfrm>
            <a:off x="179280" y="692280"/>
            <a:ext cx="2016360" cy="15127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rcRect l="33293" t="2960" r="44431" b="78856"/>
          <a:stretch/>
        </p:blipFill>
        <p:spPr>
          <a:xfrm>
            <a:off x="6912000" y="765000"/>
            <a:ext cx="2232000" cy="16560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65" name="" descr="">
            <a:hlinkClick r:id="rId4" action="ppaction://hlinksldjump"/>
          </p:cNvPr>
          <p:cNvPicPr/>
          <p:nvPr/>
        </p:nvPicPr>
        <p:blipFill>
          <a:blip r:embed="rId5"/>
          <a:srcRect l="0" t="0" r="0" b="1145"/>
          <a:stretch/>
        </p:blipFill>
        <p:spPr>
          <a:xfrm>
            <a:off x="6948360" y="5084640"/>
            <a:ext cx="2195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42920" y="404640"/>
            <a:ext cx="730908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Help others as a happy way of lif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59280" y="2781360"/>
            <a:ext cx="3429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助人为乐</a:t>
            </a:r>
            <a:r>
              <a:rPr b="0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</a:t>
            </a:r>
            <a:endParaRPr b="0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000" y="3429000"/>
            <a:ext cx="8210520" cy="2311560"/>
          </a:xfrm>
          <a:prstGeom prst="rect">
            <a:avLst/>
          </a:prstGeom>
          <a:solidFill>
            <a:srgbClr val="ccff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Comic Sans MS"/>
              </a:rPr>
              <a:t>1. Retell part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Comic Sans MS"/>
              </a:rPr>
              <a:t>2. Act the dialogue with your part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Comic Sans MS"/>
              </a:rPr>
              <a:t>3.After class, please show the way of Changzhou to a foreigner (</a:t>
            </a:r>
            <a:r>
              <a:rPr b="1" lang="zh-CN" sz="2800" spc="-1" strike="noStrike">
                <a:solidFill>
                  <a:srgbClr val="ff5050"/>
                </a:solidFill>
                <a:latin typeface="Comic Sans MS"/>
              </a:rPr>
              <a:t>外国人）</a:t>
            </a:r>
            <a:r>
              <a:rPr b="1" lang="zh-CN" sz="2800" spc="-1" strike="noStrike">
                <a:solidFill>
                  <a:srgbClr val="ff505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371600"/>
            <a:ext cx="403848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1676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522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676520" y="1980720"/>
            <a:ext cx="333360" cy="2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85800" y="1749600"/>
            <a:ext cx="668160" cy="68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911240" y="971640"/>
            <a:ext cx="835200" cy="82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07920" y="1992240"/>
            <a:ext cx="779760" cy="8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576080" y="681120"/>
            <a:ext cx="834840" cy="82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634840" y="0"/>
            <a:ext cx="500040" cy="48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68560" y="243000"/>
            <a:ext cx="557280" cy="53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019160" y="1506240"/>
            <a:ext cx="334800" cy="2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300400" y="243000"/>
            <a:ext cx="334800" cy="24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911240" y="1798200"/>
            <a:ext cx="333360" cy="2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746440" y="971280"/>
            <a:ext cx="612720" cy="43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68560" y="777600"/>
            <a:ext cx="612720" cy="43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243080" y="1263240"/>
            <a:ext cx="333360" cy="2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077920" y="437760"/>
            <a:ext cx="333360" cy="2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2090880"/>
            <a:ext cx="166680" cy="145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762120"/>
            <a:ext cx="747720" cy="501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353960" y="762120"/>
            <a:ext cx="1312920" cy="12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914400"/>
            <a:ext cx="166680" cy="14616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80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hopping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192360" y="2639520"/>
            <a:ext cx="41292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952880" y="2317680"/>
            <a:ext cx="827280" cy="90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67040" y="1287360"/>
            <a:ext cx="1033560" cy="109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229360" y="2639880"/>
            <a:ext cx="963360" cy="109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054840" y="901800"/>
            <a:ext cx="1033200" cy="109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362720" y="0"/>
            <a:ext cx="620640" cy="64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777080" y="322200"/>
            <a:ext cx="68904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65440" y="1995120"/>
            <a:ext cx="41436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6950160" y="321840"/>
            <a:ext cx="41256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467040" y="2381040"/>
            <a:ext cx="41436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7500600" y="1287360"/>
            <a:ext cx="757080" cy="57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777080" y="1029960"/>
            <a:ext cx="757440" cy="57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641560" y="1672920"/>
            <a:ext cx="41292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675480" y="579240"/>
            <a:ext cx="41256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72080" y="2768760"/>
            <a:ext cx="208080" cy="191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781320" y="457200"/>
            <a:ext cx="685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780160" y="990720"/>
            <a:ext cx="1611360" cy="17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609480"/>
            <a:ext cx="206640" cy="19368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91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s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9000" y="5067720"/>
            <a:ext cx="202680" cy="48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93800" y="6030360"/>
            <a:ext cx="1085400" cy="56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2720" y="4636080"/>
            <a:ext cx="132480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99360" y="5547960"/>
            <a:ext cx="1306080" cy="64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7760" y="5134680"/>
            <a:ext cx="1324440" cy="7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000" y="4504320"/>
            <a:ext cx="78372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9760" y="3956400"/>
            <a:ext cx="862920" cy="48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090040" y="6031080"/>
            <a:ext cx="203760" cy="48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063960" y="4936680"/>
            <a:ext cx="204120" cy="482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77160" y="4865400"/>
            <a:ext cx="203400" cy="48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53080" y="3753360"/>
            <a:ext cx="362880" cy="88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532320" y="3553920"/>
            <a:ext cx="362520" cy="88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708440" y="5849640"/>
            <a:ext cx="204120" cy="48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82920" y="5135040"/>
            <a:ext cx="204120" cy="482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5297000">
            <a:off x="5744880" y="5892840"/>
            <a:ext cx="208080" cy="191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76280" y="2959920"/>
            <a:ext cx="522720" cy="1166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224440" y="4162320"/>
            <a:ext cx="3440520" cy="1767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297000">
            <a:off x="3041280" y="3053880"/>
            <a:ext cx="206280" cy="19368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621880" y="2962800"/>
            <a:ext cx="425880" cy="105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40280" y="2807280"/>
            <a:ext cx="446040" cy="98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89440" y="4509000"/>
            <a:ext cx="362880" cy="88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708560" y="4280400"/>
            <a:ext cx="362880" cy="88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0520" y="3304080"/>
            <a:ext cx="862560" cy="48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7520" y="3837600"/>
            <a:ext cx="862560" cy="48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7339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297180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352680" y="1066680"/>
            <a:ext cx="15264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629040" y="45720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89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imar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0720" y="3500280"/>
            <a:ext cx="2374920" cy="128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pair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桌交流，试着用不同的方式问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GQ_011"/>
          <p:cNvPicPr/>
          <p:nvPr/>
        </p:nvPicPr>
        <p:blipFill>
          <a:blip r:embed="rId2"/>
          <a:stretch/>
        </p:blipFill>
        <p:spPr>
          <a:xfrm>
            <a:off x="250920" y="1052640"/>
            <a:ext cx="244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003"/>
          <p:cNvPicPr/>
          <p:nvPr/>
        </p:nvPicPr>
        <p:blipFill>
          <a:blip r:embed="rId3"/>
          <a:stretch/>
        </p:blipFill>
        <p:spPr>
          <a:xfrm>
            <a:off x="468360" y="3933720"/>
            <a:ext cx="3095640" cy="194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1"/>
          <p:cNvPicPr/>
          <p:nvPr/>
        </p:nvPicPr>
        <p:blipFill>
          <a:blip r:embed="rId4"/>
          <a:stretch/>
        </p:blipFill>
        <p:spPr>
          <a:xfrm>
            <a:off x="3780000" y="4005360"/>
            <a:ext cx="5040000" cy="2001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580000" y="1052640"/>
            <a:ext cx="2737080" cy="1655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19280" y="189000"/>
            <a:ext cx="489744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omic Sans MS"/>
              </a:rPr>
              <a:t>Task1. Talk about Mr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001"/>
          <p:cNvPicPr/>
          <p:nvPr/>
        </p:nvPicPr>
        <p:blipFill>
          <a:blip r:embed="rId6"/>
          <a:stretch/>
        </p:blipFill>
        <p:spPr>
          <a:xfrm>
            <a:off x="2700360" y="907920"/>
            <a:ext cx="252108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7" name="hammer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001"/>
          <p:cNvPicPr/>
          <p:nvPr/>
        </p:nvPicPr>
        <p:blipFill>
          <a:blip r:embed="rId2"/>
          <a:stretch/>
        </p:blipFill>
        <p:spPr>
          <a:xfrm>
            <a:off x="324000" y="333360"/>
            <a:ext cx="2158920" cy="280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003"/>
          <p:cNvPicPr/>
          <p:nvPr/>
        </p:nvPicPr>
        <p:blipFill>
          <a:blip r:embed="rId3"/>
          <a:stretch/>
        </p:blipFill>
        <p:spPr>
          <a:xfrm>
            <a:off x="322200" y="4724280"/>
            <a:ext cx="2952720" cy="1874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519280" y="549360"/>
            <a:ext cx="66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 Smith comes from ________. He _______ in Nanjing now.  He wants to visit  ______________ , but he does not know the _____.  He is _____ Yang Ling how to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483960" y="62064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276720" y="1268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is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003640" y="184464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 History 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7308720" y="2492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564000" y="3068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771640" y="3716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get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PGQ_011"/>
          <p:cNvPicPr/>
          <p:nvPr/>
        </p:nvPicPr>
        <p:blipFill>
          <a:blip r:embed="rId4"/>
          <a:stretch/>
        </p:blipFill>
        <p:spPr>
          <a:xfrm>
            <a:off x="322200" y="3357720"/>
            <a:ext cx="2160720" cy="1295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a1"/>
          <p:cNvPicPr/>
          <p:nvPr/>
        </p:nvPicPr>
        <p:blipFill>
          <a:blip r:embed="rId5"/>
          <a:stretch/>
        </p:blipFill>
        <p:spPr>
          <a:xfrm>
            <a:off x="3276720" y="4797360"/>
            <a:ext cx="53989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826920" y="404640"/>
            <a:ext cx="831708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Task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Read and then find out the sentences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Comic Sans MS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Comic Sans MS"/>
              </a:rPr>
              <a:t>读</a:t>
            </a:r>
            <a:r>
              <a:rPr b="1" lang="zh-CN" sz="2800" spc="-1" strike="noStrike">
                <a:solidFill>
                  <a:srgbClr val="333399"/>
                </a:solidFill>
                <a:latin typeface="Comic Sans MS"/>
              </a:rPr>
              <a:t>P22</a:t>
            </a:r>
            <a:r>
              <a:rPr b="1" lang="zh-CN" sz="2800" spc="-1" strike="noStrike">
                <a:solidFill>
                  <a:srgbClr val="333399"/>
                </a:solidFill>
                <a:latin typeface="Comic Sans MS"/>
              </a:rPr>
              <a:t>和</a:t>
            </a:r>
            <a:r>
              <a:rPr b="1" lang="zh-CN" sz="2800" spc="-1" strike="noStrike">
                <a:solidFill>
                  <a:srgbClr val="333399"/>
                </a:solidFill>
                <a:latin typeface="Comic Sans MS"/>
              </a:rPr>
              <a:t>P23</a:t>
            </a:r>
            <a:r>
              <a:rPr b="1" lang="zh-CN" sz="2800" spc="-1" strike="noStrike">
                <a:solidFill>
                  <a:srgbClr val="ff5050"/>
                </a:solidFill>
                <a:latin typeface="Comic Sans MS"/>
              </a:rPr>
              <a:t>前两行</a:t>
            </a:r>
            <a:r>
              <a:rPr b="1" lang="zh-CN" sz="2800" spc="-1" strike="noStrike">
                <a:solidFill>
                  <a:srgbClr val="333399"/>
                </a:solidFill>
                <a:latin typeface="Comic Sans MS"/>
              </a:rPr>
              <a:t>，找出</a:t>
            </a:r>
            <a:r>
              <a:rPr b="1" lang="zh-CN" sz="2800" spc="-1" strike="noStrike">
                <a:solidFill>
                  <a:srgbClr val="333399"/>
                </a:solidFill>
                <a:latin typeface="Comic Sans MS"/>
              </a:rPr>
              <a:t>Mr Smith</a:t>
            </a:r>
            <a:r>
              <a:rPr b="1" lang="zh-CN" sz="2800" spc="-1" strike="noStrike">
                <a:solidFill>
                  <a:srgbClr val="333399"/>
                </a:solidFill>
                <a:latin typeface="Comic Sans MS"/>
              </a:rPr>
              <a:t>问路的句子</a:t>
            </a:r>
            <a:r>
              <a:rPr b="1" lang="zh-CN" sz="2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0d0d0d"/>
                </a:solidFill>
                <a:latin typeface="Comic Sans MS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1187280" y="2349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cuse me, can you tell me the way to the history museum, pl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366920" y="3645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How fa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it from he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0"/>
          <p:cNvSpPr/>
          <p:nvPr/>
        </p:nvSpPr>
        <p:spPr>
          <a:xfrm>
            <a:off x="1066320" y="4365720"/>
            <a:ext cx="51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How many stop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1139040" y="5084640"/>
            <a:ext cx="45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Where is the bus s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3500280"/>
            <a:ext cx="1944720" cy="12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group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独立思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组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flipH="1">
            <a:off x="3708000" y="4867200"/>
            <a:ext cx="5435640" cy="18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708000" y="5227560"/>
            <a:ext cx="5435640" cy="18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5227560"/>
            <a:ext cx="0" cy="1368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5227560"/>
            <a:ext cx="0" cy="144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795920"/>
            <a:ext cx="20509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31170" t="0" r="17801" b="0"/>
          <a:stretch/>
        </p:blipFill>
        <p:spPr>
          <a:xfrm>
            <a:off x="3708360" y="5734080"/>
            <a:ext cx="709560" cy="1123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2158920" cy="133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290840"/>
            <a:ext cx="20509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859200"/>
            <a:ext cx="20509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0" y="5227200"/>
            <a:ext cx="2050920" cy="18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47960"/>
            <a:ext cx="20509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427560"/>
            <a:ext cx="20509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1477800"/>
            <a:ext cx="0" cy="1368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290840"/>
            <a:ext cx="0" cy="505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3427560"/>
            <a:ext cx="0" cy="4316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4363920"/>
            <a:ext cx="0" cy="505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3427560"/>
            <a:ext cx="0" cy="4316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1479600"/>
            <a:ext cx="0" cy="13698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708000" y="3859200"/>
            <a:ext cx="543564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708000" y="4363920"/>
            <a:ext cx="5435640" cy="18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708000" y="2847960"/>
            <a:ext cx="543564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708000" y="3427560"/>
            <a:ext cx="543564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02520" y="285264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9080" y="472428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2700360" y="3789360"/>
            <a:ext cx="5461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700360" y="3212640"/>
            <a:ext cx="0" cy="2592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3213000"/>
            <a:ext cx="1729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500720" y="278100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rcRect l="27541" t="0" r="17314" b="0"/>
          <a:stretch/>
        </p:blipFill>
        <p:spPr>
          <a:xfrm>
            <a:off x="2771640" y="5662440"/>
            <a:ext cx="789120" cy="119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1280" y="260280"/>
            <a:ext cx="7129440" cy="642600"/>
          </a:xfrm>
          <a:prstGeom prst="rect">
            <a:avLst/>
          </a:prstGeom>
          <a:solidFill>
            <a:srgbClr val="ffff99">
              <a:alpha val="70000"/>
            </a:srgbClr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can’t miss it.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你不会错过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38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1584360" y="3213000"/>
            <a:ext cx="6119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2997360"/>
            <a:ext cx="0" cy="431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04000" y="2997360"/>
            <a:ext cx="0" cy="431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 rot="16200000">
            <a:off x="4139280" y="657000"/>
            <a:ext cx="1008000" cy="6119640"/>
          </a:xfrm>
          <a:custGeom>
            <a:avLst/>
            <a:gdLst>
              <a:gd name="textAreaLeft" fmla="*/ 360 w 1008000"/>
              <a:gd name="textAreaRight" fmla="*/ 364320 w 1008000"/>
              <a:gd name="textAreaTop" fmla="*/ 159480 h 6119640"/>
              <a:gd name="textAreaBottom" fmla="*/ 5960160 h 61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04"/>
                </a:lnTo>
                <a:cubicBezTo>
                  <a:pt x="10800" y="10104"/>
                  <a:pt x="16200" y="11004"/>
                  <a:pt x="21600" y="11004"/>
                </a:cubicBezTo>
                <a:cubicBezTo>
                  <a:pt x="16200" y="11004"/>
                  <a:pt x="10800" y="11904"/>
                  <a:pt x="10800" y="1280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6922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is it from here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21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4365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It’s about                 a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373720"/>
            <a:ext cx="1622520" cy="2028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0000" y="2708280"/>
            <a:ext cx="358560" cy="289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88360" y="2708280"/>
            <a:ext cx="358560" cy="289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4"/>
          </p:cNvPr>
          <p:cNvSpPr/>
          <p:nvPr/>
        </p:nvSpPr>
        <p:spPr>
          <a:xfrm>
            <a:off x="3851280" y="43657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..kilometr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501336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千米；公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198900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119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多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7080" y="692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ow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4005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/ ə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55640" y="9079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How far is your home from here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1844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It’s about...kilometre(s) a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2708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hat’s a long/short w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350028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How do you come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By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260280"/>
            <a:ext cx="8136000" cy="6085440"/>
          </a:xfrm>
          <a:prstGeom prst="rect">
            <a:avLst/>
          </a:prstGeom>
          <a:solidFill>
            <a:srgbClr val="ffff99">
              <a:alpha val="9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Mr Smith: How far is it from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Yang Ling: It’s about a kilometre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Mr Smith: That’s a long w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Yang Ling: Well, to get there faster, you can take bus No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Mr Smith: How many stop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Yang Ling: Only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Mr Smith: Where’s the bus s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Yang Ling: It’s over there. There’s a bus every five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4076640"/>
            <a:ext cx="1872000" cy="576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5229360"/>
            <a:ext cx="6264000" cy="718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734080"/>
            <a:ext cx="2448000" cy="7192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2:24:16Z</dcterms:created>
  <dc:creator>Qj</dc:creator>
  <dc:description/>
  <dc:language>en-US</dc:language>
  <cp:lastModifiedBy>Qj</cp:lastModifiedBy>
  <dcterms:modified xsi:type="dcterms:W3CDTF">2013-03-11T05:27:52Z</dcterms:modified>
  <cp:revision>45</cp:revision>
  <dc:subject/>
  <dc:title>幻灯片 1</dc:title>
</cp:coreProperties>
</file>